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601200" cy="73152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lling Homework Ant. Complete three in a row. All work should be completed in homework journal, unless stated otherwise.Due: 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AE3A876-435B-4186-AFD8-99785C91F83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84320" y="514440"/>
            <a:ext cx="337536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3B7787A-5F17-496E-8C1F-D9853401B3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2884320" y="514440"/>
            <a:ext cx="3375360" cy="257184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703D7A3-1F5B-40D3-B2BA-B98BB4505D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Header Placeholder 4"/>
          <p:cNvSpPr/>
          <p:nvPr/>
        </p:nvSpPr>
        <p:spPr>
          <a:xfrm>
            <a:off x="0" y="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lling Homework Ant. Complete three in a row. All work should be completed in homework journal, unless stated otherwise.Due: 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06D4-396F-45E6-9A35-7F5412456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864216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520" y="4228200"/>
            <a:ext cx="864216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7683-4456-4B70-A1AF-ADD62894F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9520" y="42282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7880" y="42282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BA69-4038-42B1-B616-EF010B9FB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1640" y="17064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3400" y="17064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9520" y="42282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1640" y="42282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3400" y="42282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996C-24EB-4143-8ED1-F4BB5499B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9520" y="1706400"/>
            <a:ext cx="864216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85A0-381C-435F-BCDD-1DE1E231F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864216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0AA0-2655-44A4-B5A3-439CDD233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412B-5C68-4369-A28A-66727F829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05C6-844C-4150-A97D-7618A21C3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9520" y="293760"/>
            <a:ext cx="86421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0E3B-A55C-48F7-AD6E-A53656AFA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9520" y="42282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F968-04A3-4D1E-8A33-9F5E003B4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7880" y="42282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26B9-5FCC-4975-A21F-9BC1F5967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9520" y="4228200"/>
            <a:ext cx="864216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BA4B-862C-4F0A-B7C6-D1E0E0776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9520" y="1706400"/>
            <a:ext cx="864216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1800" indent="-3618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784080" indent="-30132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2" marL="1208160" indent="-2412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3" marL="1690560" indent="-24120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4" marL="2174760" indent="-24120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5" marL="2174760" indent="-24120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6" marL="2174760" indent="-24120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9520" y="6780240"/>
            <a:ext cx="2241360" cy="388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98E1504D-71B6-4962-86C3-C4DA85E4CFFC}" type="datetime">
              <a:rPr b="0" lang="en-US" sz="13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6780240"/>
            <a:ext cx="3042000" cy="388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0320" y="6780240"/>
            <a:ext cx="2241360" cy="388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52E3C793-BB54-4476-8CBB-877E447B2D91}" type="slidenum">
              <a:rPr b="0" lang="en-US" sz="13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traight Connector 4"/>
          <p:cNvSpPr/>
          <p:nvPr/>
        </p:nvSpPr>
        <p:spPr>
          <a:xfrm>
            <a:off x="0" y="2666880"/>
            <a:ext cx="9601200" cy="18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5"/>
          <p:cNvSpPr/>
          <p:nvPr/>
        </p:nvSpPr>
        <p:spPr>
          <a:xfrm>
            <a:off x="0" y="4952880"/>
            <a:ext cx="9601200" cy="18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traight Connector 7"/>
          <p:cNvSpPr/>
          <p:nvPr/>
        </p:nvSpPr>
        <p:spPr>
          <a:xfrm flipH="1">
            <a:off x="3200400" y="685800"/>
            <a:ext cx="7920" cy="66294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9"/>
          <p:cNvSpPr/>
          <p:nvPr/>
        </p:nvSpPr>
        <p:spPr>
          <a:xfrm>
            <a:off x="6553080" y="685800"/>
            <a:ext cx="6480" cy="663084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1"/>
          <p:cNvSpPr/>
          <p:nvPr/>
        </p:nvSpPr>
        <p:spPr>
          <a:xfrm>
            <a:off x="0" y="762120"/>
            <a:ext cx="2971800" cy="21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urrent Skil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honics ( Long Vowels o, u, 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ategorize your spelling words into 3 groups (o,u,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x.    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o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u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o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e        c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u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e       th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2"/>
          <p:cNvSpPr/>
          <p:nvPr/>
        </p:nvSpPr>
        <p:spPr>
          <a:xfrm>
            <a:off x="6629400" y="2746440"/>
            <a:ext cx="29718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urrent skill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Grammar- Write an answer to the following questions using complete senten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What Special do you have on Wednesda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Where do you liv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What did you do on Friday?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3"/>
          <p:cNvSpPr/>
          <p:nvPr/>
        </p:nvSpPr>
        <p:spPr>
          <a:xfrm>
            <a:off x="3200400" y="4952880"/>
            <a:ext cx="3352680" cy="36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urrent skill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Vocabulary  (Compound Word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ake the following words and make 7 compound words.  Then write each word in a sentence.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Underline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the compound word in each sentence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night        place     rain  fire    yard    l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ack        camp     flash    some   skate  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ow    board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nitials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4"/>
          <p:cNvSpPr/>
          <p:nvPr/>
        </p:nvSpPr>
        <p:spPr>
          <a:xfrm>
            <a:off x="6629400" y="762120"/>
            <a:ext cx="2720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rite 7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telling (.) sentences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bout a story you are reading. Each sentence must use a spelling word. Underline the spelling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5"/>
          <p:cNvSpPr/>
          <p:nvPr/>
        </p:nvSpPr>
        <p:spPr>
          <a:xfrm>
            <a:off x="152280" y="2746440"/>
            <a:ext cx="2640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rite 7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question (?) sentences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o be answered by a story’s main character. Each sentence must use a spelling word. Underline the spelling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6"/>
          <p:cNvSpPr/>
          <p:nvPr/>
        </p:nvSpPr>
        <p:spPr>
          <a:xfrm>
            <a:off x="3352680" y="1219320"/>
            <a:ext cx="256068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rite each word 3 times in your best handwrit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7"/>
          <p:cNvSpPr/>
          <p:nvPr/>
        </p:nvSpPr>
        <p:spPr>
          <a:xfrm>
            <a:off x="0" y="5257800"/>
            <a:ext cx="297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ainbow Spelli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udents may type (preferred) or write each word with vowels and consonants in a different font style or col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8"/>
          <p:cNvSpPr/>
          <p:nvPr/>
        </p:nvSpPr>
        <p:spPr>
          <a:xfrm>
            <a:off x="3321000" y="2870280"/>
            <a:ext cx="29592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terview a relative or person in your community that you would like to get to know.  Write down  5 questions that you would like to ask that person.  Then interview that person by asking the questions that you wrote down ahead of time.  Write down the answers that he/ she gives you in  complete sentenc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9"/>
          <p:cNvSpPr/>
          <p:nvPr/>
        </p:nvSpPr>
        <p:spPr>
          <a:xfrm>
            <a:off x="6781680" y="5029200"/>
            <a:ext cx="2560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rite 5 sentences that use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quotation (“ ”) marks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o show someone speaking. Write a conversation by the characters in your read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22"/>
          <p:cNvSpPr/>
          <p:nvPr/>
        </p:nvSpPr>
        <p:spPr>
          <a:xfrm>
            <a:off x="0" y="0"/>
            <a:ext cx="93726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pelling Homework for Henry and Mudge and the Starry Night.</a:t>
            </a: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udents must complete Tic-Tac-Toe (three in a row – and they must use the center square). All work should be completed in the student’s homework journal. The journal, with completed work,  and the board, with parent initials are due: __________________________________________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3"/>
          <p:cNvSpPr/>
          <p:nvPr/>
        </p:nvSpPr>
        <p:spPr>
          <a:xfrm>
            <a:off x="1447920" y="228600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6"/>
          <p:cNvSpPr/>
          <p:nvPr/>
        </p:nvSpPr>
        <p:spPr>
          <a:xfrm>
            <a:off x="4800600" y="220968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7"/>
          <p:cNvSpPr/>
          <p:nvPr/>
        </p:nvSpPr>
        <p:spPr>
          <a:xfrm>
            <a:off x="8001000" y="228600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8"/>
          <p:cNvSpPr/>
          <p:nvPr/>
        </p:nvSpPr>
        <p:spPr>
          <a:xfrm>
            <a:off x="1371600" y="449568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9"/>
          <p:cNvSpPr/>
          <p:nvPr/>
        </p:nvSpPr>
        <p:spPr>
          <a:xfrm>
            <a:off x="4876920" y="449568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0"/>
          <p:cNvSpPr/>
          <p:nvPr/>
        </p:nvSpPr>
        <p:spPr>
          <a:xfrm>
            <a:off x="7924680" y="4572000"/>
            <a:ext cx="1676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Par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Initials:________________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31"/>
          <p:cNvSpPr/>
          <p:nvPr/>
        </p:nvSpPr>
        <p:spPr>
          <a:xfrm>
            <a:off x="1447920" y="691524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33"/>
          <p:cNvSpPr/>
          <p:nvPr/>
        </p:nvSpPr>
        <p:spPr>
          <a:xfrm>
            <a:off x="7848720" y="670572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5T19:32:00Z</dcterms:created>
  <dc:creator> </dc:creator>
  <dc:description/>
  <dc:language>en-US</dc:language>
  <cp:lastModifiedBy>Mits Mits</cp:lastModifiedBy>
  <cp:lastPrinted>2009-10-19T10:55:04Z</cp:lastPrinted>
  <dcterms:modified xsi:type="dcterms:W3CDTF">2009-10-19T10:55:30Z</dcterms:modified>
  <cp:revision>21</cp:revision>
  <dc:subject/>
  <dc:title>Slide 1</dc:title>
</cp:coreProperties>
</file>